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F3C5-DFE7-4B82-92B4-52F96751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3692-9EC8-46A5-832F-8649A842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C6EC-06A0-471C-931F-59B1E81DC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7B1-F48C-4CE7-BE83-99E85934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252-DA72-488E-9305-77574E72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EB6-13BC-43E8-85D9-E9A61977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1C3-5A23-4AD0-8C6F-B4BD8B01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B9D-5A12-4969-A602-9B218ABD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41F-E491-4FCF-A85B-3E41AC5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607-D3A3-45E2-98FA-C73BDE48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42C-7024-4CC7-9EFC-8CCA954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29E-0C8C-4D3C-B6F3-0F8E8C8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972-B3E1-40F8-9424-B4FA3804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EB1-0AD4-4900-8DEE-BDFF002B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E2C-8A26-43CA-95E7-5A16BE7D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1F4B-1D7A-4686-B971-2C71397A2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etika K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81280"/>
            <a:ext cx="2057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s amigos! Me llamo Geetika. Yo vivo en Astoria, New York. Tengo catorce años. Me uno hermano, y se llama Tanish. Estoy gracioso, y jov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63868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somos niñ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Arrepentido yo no responder. ¿Si yo tengo tarea, 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etika K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0" y="3581280"/>
            <a:ext cx="2057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s amigos! Me llamo Geetika. Yo vivo en Astoria, New York. Tengo catorce años. Me uno hermano, y se llama Tanish. Estoy gracioso, y jov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7973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63868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somos niñ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Arrepentido yo no responder. ¿por qué quienes hela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¿Tienes helado? Mi hermano y hermana quienes hel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7:33Z</dcterms:modified>
  <cp:revision>108</cp:revision>
  <dc:subject/>
  <dc:title>Profile</dc:title>
</cp:coreProperties>
</file>